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77F3-5966-4B76-80F3-F0FF58803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00D4-A00E-4072-BBF6-A3D89DE9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F026-59D8-4595-9CFC-6F1C71F23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E4B0-C084-4185-AD6E-E1A150435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CD30-F066-4253-BB92-E0FC5BCF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B245-1E2C-462D-AD8F-7FFCC798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F659-D852-432B-8EC2-C523CD4D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5A04-D775-40F9-B442-7C3FE454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24C7-9E18-4F49-A08E-8AA295EE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B8EA-DC9C-45FE-9CA0-3E7301B2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9B2A-9954-421E-883F-E7AE61B7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11C4-80CC-4B39-82CB-8B6E88B8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3669-CFCA-43CC-9F53-A63E77C7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C014-AA20-4CFC-9119-9F4971BF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98C3-70D1-43AB-9012-16012A1F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9E53-9FEA-4FFB-9F7E-ED5064557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75A0-8C41-49C9-819F-72EF2DE76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F14E-FA0B-4E5E-908E-8C100611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3CA3-9E3D-4094-8E91-A789C6A7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187D-719F-45C7-9B04-2F87918C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1448-59D3-459D-8CCC-CDD918FF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FA5D-DE58-4A55-8E96-A7E2773A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875D-A459-495D-B4C2-7E681417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8468-61EF-4D35-A5E2-E5B5357B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EE2F-F13A-447F-8943-EFCF05288D1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7AF3-7440-4631-B59A-724AF17989F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posta ANA de revisão da Resolução CNRH n.º 12/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3736800"/>
            <a:ext cx="7238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quadramento dos corpos de ág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1ª Reunião CTPO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sília, 12 de setembro de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Conferência Nacional do Meio Ambiente (2003) definiu como uma das met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evantar a situação atual dos cursos d’água principais e de seus afluentes e elaborar propostas de enquadramento de todos os cursos d’água até 2008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ção n.º 67/2005, do CONAMA, recomenda implementação de programa nacional, com dotação financeira própria, para o enquadramento dos corpos d’água, que inclua, entre outras, ações de </a:t>
            </a:r>
            <a:r>
              <a:rPr b="0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atualização normativ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e de capacitação de recursos human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lução CONAMA n.º 357/2005 revogou e substituiu Resolução CONAMA n.º 20/198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a os normativos que embasam a elaboração do enquadramento dos corpos hídricos e, conseqüente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a a aplicação da Resolução CNRH n.º 12/2000, que estabelece os procedimentos para o enquadramento dos corpos de água em cla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Resolução CNRH n.º 12/2000, art. 2º dispõ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gências de Água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, no âmbito de sua área de atuação, proporão aos respectivos Comitês de Bacia Hidrográfica o enquadramento de corpos de água em classes segundo os usos preponderantes, com base nas respectivas legislações de recursos hídricos e ambiental e segundo os procedimentos dispostos nesta Resolução.”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 art 3º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para bacias sem agências de água)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...as propostas poderão ser elaboradas pelos </a:t>
            </a:r>
            <a:r>
              <a:rPr b="0" i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consórcios ou associações intermunicipais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de bacias hidrográficas, com a participação dos órgãos gestores de recursos hídricos em conjunto com os órgãos de meio ambient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de a Resolução n.º 12/2000, não se tem conhecimento de que algum corpo de água tenha sido enquadrado segundo seus proced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ó há Agências de Água nas bacias hidrográficas dos rios Piracicaba, Capivari e Jundiaí e do rio Paraíba do S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solução CNRH n.º 12/2000 precisa ser revisada de modo a permitir que  outros atores do SINGREH realizem os enquadra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lano Nacional de Recursos Hídricos (PNRH) consta 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programa III.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mento aos Planos de Recursos Hídricos e ao Enquadramento dos Corpos Hídricos em Classes de Us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programa III.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quer que os procedimentos relativos ao enquadramento estejam adequados aos novos norma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466720" y="2712960"/>
            <a:ext cx="400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OPOST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posta ANA para a revisão da Resolução CNRH n.º 12/2000 objetiv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timizar a implementação do instru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iar a possibilidade de execução dos estudos para o enquadramento dos corpos d’água por órgãos com competências para a gestão de recursos híd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dequá-la a aos normativos da Resolução CONAMA n.º 357/200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posta ANA de revisão permite atuar em três cenários distin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nário ide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Agência de Água elabora proposta de enquadr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Comitê da Bacia escolhe a melhor altern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Conselho Nacional ou Estadual aprova, se for o ca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Na ausência de Agência de Água, mas com Comitê de Ba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órgão competente de recursos hídricos, em conjunto com o órgão de meio ambiente, elabora proposta de enquadr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Comitê de Bacia supervisiona o processo e escolhe a melhor altern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Conselho Nacional ou Estadual aprova, se for o ca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Na ausência de Comitê de Ba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órgão competente de recursos hídricos, em conjunto com o órgão de meio ambiente, elabora proposta de enquadr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Conselho Nacional ou Estadual aprova, se for o caso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uvid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s usuários e as comunidades interessadas (art. 1º, VI, da Lei n.º  9.433/19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091" t="987" r="77224" b="92265"/>
          <a:stretch/>
        </p:blipFill>
        <p:spPr>
          <a:xfrm>
            <a:off x="0" y="0"/>
            <a:ext cx="6516720" cy="2816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11280" y="1566720"/>
            <a:ext cx="770580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Times New Roman"/>
              </a:rPr>
              <a:t>Superintendência de Outorga e Fiscaliz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Times New Roman"/>
              </a:rPr>
              <a:t>Luciano Meneses Cardoso da Silva, D.E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Gerente de Outo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pecialista em Recursos Híd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lmeneses@ana.gov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.:  (61) 2109-52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www.ana.gov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09680" y="2712960"/>
            <a:ext cx="516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 acordo com o art. 35, VI, da Lei  n.º 9.433/1997, cabe ao CNRH estabelecer as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diretrizes complementar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para implementação da Política Nacional de Recursos Híd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art 1º, XI, do Decreto n.º 4.613/2003, atribui ao CNRH a competência para aprovar o enquadramento de corpos de água em classes, em consonância com as diretrizes CONAMA e de acordo com a classificação estabelecida na legislação ambi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enquadramento de corpos de água em classes é um instrumento da Política Nacional de Recursos Hídricos (Lei n.º 9.433/199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a matéria foi regulamentada pela Resolução CNRH n.º 12/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e do dispositivo fora disciplinado anteriormente pela Resolução CONAMA n.º 20/1986, revista no âmbito do CONAMA pela Resolução n.º 357/200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enquadramento é um instrumento de convergência entre as Políticas de Meio Ambiente e de Recursos Híd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 repercussão operacional sobre os órgãos do SISNAMA e SINGRE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a normalização compete ao CONAMA e ao CNRH, bem como seus pares estadu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itui referência para o licenciamento ambiental e para a outorga de direito de uso de recursos hídr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experiência brasileira em enquadramento é pouco expressiva apesar de a primeira legislação ter sido de 1976 (Portaria GM n.º 13/1976 do Ministério do Interior) e depois a Resolução CONAMA n.º 20/1986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esar de existir há 30 anos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penas trê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rpos de água de domínio da União foram enquadra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rio Paranapanema (Portaria n.º 29/1980 da SE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rio Paraíba do Sul (Portaria n.º 86/1981 do Ministério do Interi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rio São Francisco (Portaria n.º 715/1989 do IBA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enas dez estados realizaram, total ou parcialmente, o enquadrame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o Grande do S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ta Catar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ão Pa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o Grosso do S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as Ger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í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h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go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374160" y="6181560"/>
            <a:ext cx="187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nte: ANA (200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921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cias de rios estaduais que possuem enquadr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3802" t="20218" r="9476" b="20070"/>
          <a:stretch/>
        </p:blipFill>
        <p:spPr>
          <a:xfrm>
            <a:off x="2268360" y="620640"/>
            <a:ext cx="6193080" cy="6031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01760" y="5002200"/>
            <a:ext cx="457200" cy="3049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1760" y="4227480"/>
            <a:ext cx="45720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5797440"/>
            <a:ext cx="4572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6450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GISL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5013360"/>
            <a:ext cx="378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olução CONAMA nº 20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4221000"/>
            <a:ext cx="41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taria Min. Interior nº 13/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7760" y="58183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ão enquadr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11280" y="115920"/>
            <a:ext cx="79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cias de rios federais que possuem enquadr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58200" y="6405480"/>
            <a:ext cx="187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nte: ANA (200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10787" t="12122" r="16670" b="31818"/>
          <a:stretch/>
        </p:blipFill>
        <p:spPr>
          <a:xfrm>
            <a:off x="2195640" y="609480"/>
            <a:ext cx="6248160" cy="62485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666200" y="3505320"/>
            <a:ext cx="139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ão Francis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BAMA (198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160" y="4800600"/>
            <a:ext cx="152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aíba do S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EEIVAP (198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24120" y="5334120"/>
            <a:ext cx="144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anapan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4941720"/>
            <a:ext cx="45720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4149720"/>
            <a:ext cx="45720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5715000"/>
            <a:ext cx="457200" cy="30492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3581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GISL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42920" y="494172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taria SE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.º 29/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anapan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57150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taria IBAMA 715/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4149720"/>
            <a:ext cx="41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taria Min. Interior nº 86/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aíba do S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00720" y="5574240"/>
            <a:ext cx="266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EEIPEMA (1980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POA-CGTI</cp:lastModifiedBy>
  <dcterms:modified xsi:type="dcterms:W3CDTF">2006-09-13T16:14:52Z</dcterms:modified>
  <cp:revision>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